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F585-A0DA-405B-9E04-8AB4A06984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0D6D-B79F-4D8F-B387-FD6431A617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3A4-0068-4FBF-8B8E-B868A59B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9E9-824E-4C37-B2CA-5D48F44E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456-6882-4B3D-B52E-9FF8549E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498-25D6-4410-9297-50C352F5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753-10E7-4121-9518-3E35D846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604-B9DF-474E-9606-21299368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C39-A0A2-4012-B300-4B2C747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4FE-25A8-4643-AC50-4E19B25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EDA-935B-48AC-9EDB-A94BC76B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F50-058E-44F0-807D-42B467AF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1E8-E54B-461D-A463-075EC66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D91-6BB3-411E-8D1B-57CBE7F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A5A8-BA12-48EF-928C-C8AF161F330B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58920" y="2454120"/>
            <a:ext cx="60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16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朱德的扁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71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468360" y="4748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他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戴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正在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042920" y="574560"/>
            <a:ext cx="7129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二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朗读课文，读好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618800" y="1414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读短语，再读长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敌人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足够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敌人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足够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250920" y="4365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军要巩固井冈山根据地，粉碎敌人的围攻，需要储备足够的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33640" y="1341360"/>
            <a:ext cx="66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井冈山上生产的粮食不多，常常要抽出一些人到山下宁冈的茅坪去挑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349280" y="3762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五六十里，山高路陡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349280" y="37623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六十里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山高路陡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三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情境活动，体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2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2063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2403000" y="3800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一要有礼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909080" y="459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二要问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414400" y="4089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同甘共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9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四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游戏巩固，学写汉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262728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3"/>
          <a:stretch/>
        </p:blipFill>
        <p:spPr>
          <a:xfrm>
            <a:off x="4716360" y="1376280"/>
            <a:ext cx="1881360" cy="1898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4"/>
          <a:stretch/>
        </p:blipFill>
        <p:spPr>
          <a:xfrm>
            <a:off x="680400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5"/>
          <a:stretch/>
        </p:blipFill>
        <p:spPr>
          <a:xfrm>
            <a:off x="53964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6"/>
          <a:stretch/>
        </p:blipFill>
        <p:spPr>
          <a:xfrm>
            <a:off x="262728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7"/>
          <a:stretch/>
        </p:blipFill>
        <p:spPr>
          <a:xfrm>
            <a:off x="4716360" y="3905280"/>
            <a:ext cx="1881360" cy="1900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8"/>
          <a:stretch/>
        </p:blipFill>
        <p:spPr>
          <a:xfrm>
            <a:off x="6804000" y="3905280"/>
            <a:ext cx="1882800" cy="190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1098360" y="24098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38452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295440" y="24782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29544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8452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112032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747216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7216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3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3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3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1116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战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758240" y="91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右等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7280" y="1967040"/>
            <a:ext cx="197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4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4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"/>
          <p:cNvSpPr/>
          <p:nvPr/>
        </p:nvSpPr>
        <p:spPr>
          <a:xfrm>
            <a:off x="118728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扁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25080" y="198900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面头要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下面撇舒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里面半露又半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边竖注意稍内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51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53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11600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士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700520" y="1557360"/>
            <a:ext cx="2535480" cy="2846520"/>
            <a:chOff x="4700520" y="1557360"/>
            <a:chExt cx="2535480" cy="2846520"/>
          </a:xfrm>
        </p:grpSpPr>
        <p:grpSp>
          <p:nvGrpSpPr>
            <p:cNvPr id="159" name="Group 7"/>
            <p:cNvGrpSpPr/>
            <p:nvPr/>
          </p:nvGrpSpPr>
          <p:grpSpPr>
            <a:xfrm>
              <a:off x="4700520" y="1829520"/>
              <a:ext cx="2535480" cy="2574360"/>
              <a:chOff x="4700520" y="1829520"/>
              <a:chExt cx="2535480" cy="2574360"/>
            </a:xfrm>
          </p:grpSpPr>
          <p:grpSp>
            <p:nvGrpSpPr>
              <p:cNvPr id="160" name="Group 8"/>
              <p:cNvGrpSpPr/>
              <p:nvPr/>
            </p:nvGrpSpPr>
            <p:grpSpPr>
              <a:xfrm>
                <a:off x="4700520" y="1845360"/>
                <a:ext cx="2535480" cy="2558520"/>
                <a:chOff x="4700520" y="1845360"/>
                <a:chExt cx="2535480" cy="255852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470052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"/>
                <p:cNvSpPr/>
                <p:nvPr/>
              </p:nvSpPr>
              <p:spPr>
                <a:xfrm>
                  <a:off x="470052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"/>
              <p:cNvSpPr/>
              <p:nvPr/>
            </p:nvSpPr>
            <p:spPr>
              <a:xfrm>
                <a:off x="597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2"/>
            <p:cNvSpPr/>
            <p:nvPr/>
          </p:nvSpPr>
          <p:spPr>
            <a:xfrm>
              <a:off x="473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"/>
          <p:cNvSpPr/>
          <p:nvPr/>
        </p:nvSpPr>
        <p:spPr>
          <a:xfrm>
            <a:off x="4788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志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384560" y="982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三笔是短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92400" y="9288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下两部分比例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380880" y="1557360"/>
            <a:ext cx="2535480" cy="2846520"/>
            <a:chOff x="380880" y="1557360"/>
            <a:chExt cx="2535480" cy="2846520"/>
          </a:xfrm>
        </p:grpSpPr>
        <p:grpSp>
          <p:nvGrpSpPr>
            <p:cNvPr id="169" name="Group 7"/>
            <p:cNvGrpSpPr/>
            <p:nvPr/>
          </p:nvGrpSpPr>
          <p:grpSpPr>
            <a:xfrm>
              <a:off x="380880" y="1829520"/>
              <a:ext cx="2535480" cy="2574360"/>
              <a:chOff x="380880" y="1829520"/>
              <a:chExt cx="2535480" cy="257436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380880" y="1845360"/>
                <a:ext cx="2535480" cy="2558520"/>
                <a:chOff x="380880" y="1845360"/>
                <a:chExt cx="2535480" cy="2558520"/>
              </a:xfrm>
            </p:grpSpPr>
            <p:sp>
              <p:nvSpPr>
                <p:cNvPr id="171" name="Rectangle 9"/>
                <p:cNvSpPr/>
                <p:nvPr/>
              </p:nvSpPr>
              <p:spPr>
                <a:xfrm>
                  <a:off x="38088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"/>
                <p:cNvSpPr/>
                <p:nvPr/>
              </p:nvSpPr>
              <p:spPr>
                <a:xfrm>
                  <a:off x="38088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1"/>
              <p:cNvSpPr/>
              <p:nvPr/>
            </p:nvSpPr>
            <p:spPr>
              <a:xfrm>
                <a:off x="165240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2"/>
            <p:cNvSpPr/>
            <p:nvPr/>
          </p:nvSpPr>
          <p:spPr>
            <a:xfrm>
              <a:off x="41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3"/>
          <p:cNvSpPr/>
          <p:nvPr/>
        </p:nvSpPr>
        <p:spPr>
          <a:xfrm>
            <a:off x="39528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担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260880" y="1557360"/>
            <a:ext cx="2535120" cy="2846520"/>
            <a:chOff x="3260880" y="1557360"/>
            <a:chExt cx="2535120" cy="2846520"/>
          </a:xfrm>
        </p:grpSpPr>
        <p:grpSp>
          <p:nvGrpSpPr>
            <p:cNvPr id="177" name="Group 7"/>
            <p:cNvGrpSpPr/>
            <p:nvPr/>
          </p:nvGrpSpPr>
          <p:grpSpPr>
            <a:xfrm>
              <a:off x="3260880" y="1829520"/>
              <a:ext cx="2535120" cy="2574360"/>
              <a:chOff x="3260880" y="1829520"/>
              <a:chExt cx="2535120" cy="2574360"/>
            </a:xfrm>
          </p:grpSpPr>
          <p:grpSp>
            <p:nvGrpSpPr>
              <p:cNvPr id="178" name="Group 8"/>
              <p:cNvGrpSpPr/>
              <p:nvPr/>
            </p:nvGrpSpPr>
            <p:grpSpPr>
              <a:xfrm>
                <a:off x="3260880" y="1845360"/>
                <a:ext cx="2535120" cy="2558520"/>
                <a:chOff x="3260880" y="1845360"/>
                <a:chExt cx="2535120" cy="255852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326088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0"/>
                <p:cNvSpPr/>
                <p:nvPr/>
              </p:nvSpPr>
              <p:spPr>
                <a:xfrm>
                  <a:off x="326088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11"/>
              <p:cNvSpPr/>
              <p:nvPr/>
            </p:nvSpPr>
            <p:spPr>
              <a:xfrm>
                <a:off x="453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2"/>
            <p:cNvSpPr/>
            <p:nvPr/>
          </p:nvSpPr>
          <p:spPr>
            <a:xfrm>
              <a:off x="329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3276720" y="1503360"/>
            <a:ext cx="316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伍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40520" y="1557360"/>
            <a:ext cx="2535120" cy="2846520"/>
            <a:chOff x="6140520" y="1557360"/>
            <a:chExt cx="2535120" cy="2846520"/>
          </a:xfrm>
        </p:grpSpPr>
        <p:grpSp>
          <p:nvGrpSpPr>
            <p:cNvPr id="185" name="Group 7"/>
            <p:cNvGrpSpPr/>
            <p:nvPr/>
          </p:nvGrpSpPr>
          <p:grpSpPr>
            <a:xfrm>
              <a:off x="6140520" y="1829520"/>
              <a:ext cx="2535120" cy="2574360"/>
              <a:chOff x="6140520" y="1829520"/>
              <a:chExt cx="2535120" cy="2574360"/>
            </a:xfrm>
          </p:grpSpPr>
          <p:grpSp>
            <p:nvGrpSpPr>
              <p:cNvPr id="186" name="Group 8"/>
              <p:cNvGrpSpPr/>
              <p:nvPr/>
            </p:nvGrpSpPr>
            <p:grpSpPr>
              <a:xfrm>
                <a:off x="6140520" y="1845360"/>
                <a:ext cx="2535120" cy="2558520"/>
                <a:chOff x="6140520" y="1845360"/>
                <a:chExt cx="2535120" cy="2558520"/>
              </a:xfrm>
            </p:grpSpPr>
            <p:sp>
              <p:nvSpPr>
                <p:cNvPr id="187" name="Rectangle 9"/>
                <p:cNvSpPr/>
                <p:nvPr/>
              </p:nvSpPr>
              <p:spPr>
                <a:xfrm>
                  <a:off x="614052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"/>
                <p:cNvSpPr/>
                <p:nvPr/>
              </p:nvSpPr>
              <p:spPr>
                <a:xfrm>
                  <a:off x="614052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11"/>
              <p:cNvSpPr/>
              <p:nvPr/>
            </p:nvSpPr>
            <p:spPr>
              <a:xfrm>
                <a:off x="74116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2"/>
            <p:cNvSpPr/>
            <p:nvPr/>
          </p:nvSpPr>
          <p:spPr>
            <a:xfrm>
              <a:off x="617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3"/>
          <p:cNvSpPr/>
          <p:nvPr/>
        </p:nvSpPr>
        <p:spPr>
          <a:xfrm>
            <a:off x="615636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师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850560" y="858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窄右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"/>
          <p:cNvPicPr/>
          <p:nvPr/>
        </p:nvPicPr>
        <p:blipFill>
          <a:blip r:embed="rId2"/>
          <a:stretch/>
        </p:blipFill>
        <p:spPr>
          <a:xfrm rot="2084400">
            <a:off x="2998800" y="2763720"/>
            <a:ext cx="6070680" cy="1782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560520" y="278136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扁 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4437000"/>
            <a:ext cx="597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d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            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一担粮食、挑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527480" y="476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一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归类认读，识记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94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95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96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1116000" y="148428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军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091840" y="24447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秃宝盖，要舒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车的最后是一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、朱纪芬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429264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朱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0812291123186765"/>
          <p:cNvPicPr/>
          <p:nvPr/>
        </p:nvPicPr>
        <p:blipFill>
          <a:blip r:embed="rId1"/>
          <a:stretch/>
        </p:blipFill>
        <p:spPr>
          <a:xfrm>
            <a:off x="468360" y="1052640"/>
            <a:ext cx="2867040" cy="3168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564000" y="105264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朱德爷爷与毛主席、周总理一样，是我们老一辈的无产阶级革命家、政治家和军事家，中国共产党、中国人民解放军和中华人民共和国的主要创造者和领导人之一。中华人民共和国十大元帅之首。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 rot="20646600">
            <a:off x="2406240" y="1128600"/>
            <a:ext cx="118584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357264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井冈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60760" y="2454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根据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 rot="19804800">
            <a:off x="1414080" y="1283760"/>
            <a:ext cx="1182600" cy="824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1619280" y="596880"/>
            <a:ext cx="178128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矩形 9"/>
          <p:cNvSpPr/>
          <p:nvPr/>
        </p:nvSpPr>
        <p:spPr>
          <a:xfrm>
            <a:off x="3586320" y="725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860520" y="6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860520" y="159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战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6900120" y="227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122716041110895800897"/>
          <p:cNvPicPr/>
          <p:nvPr/>
        </p:nvPicPr>
        <p:blipFill>
          <a:blip r:embed="rId1"/>
          <a:stretch/>
        </p:blipFill>
        <p:spPr>
          <a:xfrm>
            <a:off x="468360" y="2000160"/>
            <a:ext cx="374652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80288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草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6122160" y="87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斗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1749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2268360" y="1052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山高路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37236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难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372360" y="55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443640" y="23511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36000" y="198900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灾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难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116000" y="1052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士     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3748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2"/>
          <a:stretch/>
        </p:blipFill>
        <p:spPr>
          <a:xfrm>
            <a:off x="3797280" y="2500200"/>
            <a:ext cx="1351080" cy="1433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3860640" y="451800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4"/>
          <a:stretch/>
        </p:blipFill>
        <p:spPr>
          <a:xfrm>
            <a:off x="5678640" y="4518000"/>
            <a:ext cx="1197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00000" y="765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抽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395280" y="870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1793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穿着草鞋，戴着斗笠，挑起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95280" y="1797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粮食，跟大家一块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爬山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8360" y="3681360"/>
            <a:ext cx="51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挑着  穿着  戴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鞋  斗笠  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116000" y="4508640"/>
            <a:ext cx="3168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1331640" y="4419720"/>
            <a:ext cx="136836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H="1">
            <a:off x="3024360" y="4508640"/>
            <a:ext cx="143640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364000" y="314172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推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举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扛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捧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719280" y="54936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带领队伍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围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生产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藏起扁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572000" y="1197000"/>
            <a:ext cx="36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42920" y="4041720"/>
            <a:ext cx="30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挑着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穿着草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戴着斗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741840" y="40053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9:33:0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